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4B9FC-A46C-470F-8616-0B6C7140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65BA-9186-4BDC-AEC5-A3DBA4DF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5086-A157-4380-BFD9-DDDB63C1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9CA2-D000-4990-A7DE-DF72F2DA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7892-8195-4381-9990-F6AD8FA1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A1B1-4213-48EA-8774-23BBAE6E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341F-EB16-401B-A193-7209BCCC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038F-1C46-40D5-9B74-87B2AD2A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536C-BEC7-44CF-8057-A1A54E37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E2AE-F0AF-44BF-BB02-2A41D41F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F0DE-A9E8-4C34-9DB8-512B0F83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B679-10FF-4695-A351-8E5044B9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B0B3-3C3D-42C4-B841-BE9456DC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CCF8-EF3B-471A-85E8-4AB43BC0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5EB4-DB5F-421D-A87D-F46263AC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CBC6-B5E1-4809-AE59-F11A191F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F56F-1BDE-491C-BC67-AECE7AC3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72EEE-7684-4E45-AB81-3865E513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C7E0-1BF1-46BA-BDD2-EAF11086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B3EF-35EB-44B4-A0C1-6163E1EE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B3985-A333-48C0-B735-E5560148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667E-FF12-4F76-81BE-E220098A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BC2E-6C55-432A-9823-7AC2F4C7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2A353-9992-4849-A23C-32ED0EEF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314D-5F04-4BA1-BB46-633F7F6159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0284-6594-4A38-81D8-6296DB3999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395 Intern Projec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ttle Feet, in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laska Walking St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: Joshua Pat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alid_Us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na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valid users can manage table data within the Datab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atabase Diagra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457200" y="1447920"/>
          <a:ext cx="822960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448920" cy="746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ustomer Management 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Function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a new Custo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ID is obtained by an MD5 Hash fun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lues to be hashed are FirstName, MiddleInitilal, and LastName. After the hash is complete the Hashed value is stored in the  CustomerID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ete a Custo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 Custo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Inserting a New Customers Result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44892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ject Overview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and implement a Web-based database Management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web based interface to manipulate Customer, Item Description, and Sale tables within the datab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 queries to search for specific Customer data, Inventory Items, and Sales Transactions within the datab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Item Description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anagemen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a new ItemID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ete a ItemID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for a ItemID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ale Manage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new S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ete a S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for a Sales Rec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asons Behind Projec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girlfriends M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book keeping done by h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for an extremely messy paper tra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omputerized system being use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 for QuickBooks being used to balance monthly credit card trans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oftware I Us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 Ser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used to make the que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SQL command line cli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used for the database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vic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a Gui software I used to edit my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mport excel files I created to hold some table d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asons Cont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ing able to quickly look up a customers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customers purchase hi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ing track of a customers individual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ing able to search  specific sales history quick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search for Who bought What, and When in one search by using just a SaleNum sear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atabase Tabl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e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m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id_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93726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70866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96012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23:22:48Z</dcterms:created>
  <dc:creator>CPUser</dc:creator>
  <dc:description/>
  <dc:language>en-US</dc:language>
  <cp:lastModifiedBy>CPUser</cp:lastModifiedBy>
  <dcterms:modified xsi:type="dcterms:W3CDTF">2006-12-07T22:47:12Z</dcterms:modified>
  <cp:revision>38</cp:revision>
  <dc:subject/>
  <dc:title>395 Intern Project</dc:title>
</cp:coreProperties>
</file>